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BF0-2828-4435-B225-ACAA23CF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80A-123E-4846-B915-585CE134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CE1-D82E-4403-9714-DA5A9118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6503-BBC1-41A5-8A5D-34AEB93D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59A8-5851-4781-9F0E-5A539D02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94EB-2238-49FC-BBB1-BC70CB18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75BF-E3F7-42AD-A3AD-F2F065A8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F51A-FB41-466A-9B1B-C6361BAA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29CF-AFAB-44A8-8841-06958543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94C1-2892-4886-8588-BDC3BE40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2AD7-722B-46DC-9CAB-DEFD466E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534-6927-4BF6-819F-439D0894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35BE-AB11-4615-B55F-13528147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3295-1324-4B28-A447-1E15276E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A1A4-BDC0-4F0A-948C-2C37AFDA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7226-2927-49B1-917E-B5DBEBBB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17916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30080" y="152388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60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17916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30080" y="4150800"/>
            <a:ext cx="2809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1CE3-9118-422B-A1B9-6EF29325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0276-1914-4C62-8B4B-45B63B36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B755-633E-4505-BAE6-B7714058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F5B-9A81-439D-8DCB-C646EE83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94920" y="152280"/>
            <a:ext cx="7543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576-AD21-4402-A855-8E8EFC90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B6A-1005-43CA-8F0A-D1F0678D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0520" y="415080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E32-BBF0-45B7-A7AA-DC9225D5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0520" y="1523880"/>
            <a:ext cx="4258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50800"/>
            <a:ext cx="8726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63F0-D239-406D-9570-C45A4FCD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88880"/>
            <a:ext cx="438120" cy="47484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888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14400"/>
            <a:ext cx="422280" cy="47484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9144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3808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808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21896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78EC-A40C-4919-8229-4D95FA94F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229600" y="6126120"/>
            <a:ext cx="900000" cy="73188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467480" y="6124680"/>
            <a:ext cx="76212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b7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b4e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970E-E5ED-49DD-A7CD-D624CC0ABF61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715000" y="5292720"/>
            <a:ext cx="2022480" cy="14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57280" y="5788080"/>
            <a:ext cx="1819440" cy="563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838080" y="5711760"/>
            <a:ext cx="716040" cy="689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886200" y="5626080"/>
            <a:ext cx="898560" cy="927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hyperlink" Target="http://iubio.bio.indiana.edu/daphnia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ubio.bio.indiana.edu/daphnia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oward a Unified Gene Pag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3000" y="3962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Meeting, April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10160" y="48769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 Gilbert, 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gilbertd</a:t>
            </a:r>
            <a:r>
              <a:rPr b="0" lang="en-US" sz="2400" spc="-1" strike="noStrike" u="sng">
                <a:solidFill>
                  <a:srgbClr val="c481cf"/>
                </a:solidFill>
                <a:uFillTx/>
                <a:latin typeface="Arial"/>
                <a:hlinkClick r:id="rId2"/>
              </a:rPr>
              <a:t>@indiana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001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and size of default docum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ular, text, document-lik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creen or long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(maps, icons, 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Detail op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and Design (colors, formatting, fonts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hould these be unified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5207040" cy="63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 custo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s &amp;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or organism community (org. standard) or for general reader (general stand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or beginners or experts (simple,compl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is customizable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3915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81000" y="177840"/>
            <a:ext cx="7182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65316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39116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029360" cy="56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able text of gene pag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what you see (web page) is also what your computer can read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and human-readable, or complex and det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variants, tabular, 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2XML, NCBI XML,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s (Web -&gt; X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mmon Gene XML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net news (</a:t>
            </a: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www.bio.ne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eds new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by celegans, yeast, chlamydomonas, drosophila, zebrafish, maize, urodeles; genbank, embl, software, others.  Letters of Suppor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aGrid (NSF Shared Cyberinfrastructure) wants to help MOD genome comp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for FlyBase and euGenes this fall - oth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Don Gilbert for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Extraneous announcements</a:t>
            </a: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Fly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266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Yeast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305000"/>
            <a:ext cx="708660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ouse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825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orm Gene Page as XML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6656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: Design your common gen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t/paste sample XML pages into 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n what should be un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n best parts of MOD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: Talk MODs into generating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481cf"/>
                </a:solidFill>
                <a:uFillTx/>
                <a:latin typeface="Arial"/>
                <a:hlinkClick r:id="rId1"/>
              </a:rPr>
              <a:t>http://eugenes.org/all/gene-report-example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1600" y="3808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ask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41320" y="61920"/>
            <a:ext cx="745956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arts of MOD gene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/should be unif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ill benefit? 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Web Repor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M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: discuss, design common gene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Gene Pag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209520"/>
            <a:ext cx="77724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, symbols/IDs, syn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lo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cross-refs, External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mmon gene attributes, pt1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, Tran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ion and Mutant Pheno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, Structure and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 oth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ommon gene attributes, pt2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33428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s - are these same th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/ locus / o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log / ortholog / relationship / similarit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ation / publication / re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76b74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 of docum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h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c481c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at t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mmon 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hould these be unified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0:38:43Z</dcterms:created>
  <dc:creator>don gilbert</dc:creator>
  <dc:description/>
  <dc:language>en-US</dc:language>
  <cp:lastModifiedBy>don gilbert</cp:lastModifiedBy>
  <cp:lastPrinted>2003-09-14T02:13:55Z</cp:lastPrinted>
  <dcterms:modified xsi:type="dcterms:W3CDTF">2004-04-26T01:53:51Z</dcterms:modified>
  <cp:revision>75</cp:revision>
  <dc:subject/>
  <dc:title>wFleaBase in ARGOS</dc:title>
</cp:coreProperties>
</file>